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5E34-FC11-48E9-8ACB-69A60611A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7E1B-30A9-45A8-A6EC-93A7CD22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A353-A733-4A2B-9420-FC0E1B1D1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BC08-0242-46E7-A26E-6698B1A6D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0084-0D9D-4BA6-AF56-2D21E9303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3290-3690-4E09-B141-7BF80145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570C-004E-4AD7-AFE0-FFBFB5D7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B5FF-C721-4595-9457-71D70E18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A5F7-A9CC-4E7B-8001-4B1361FB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1F39-40B9-4023-97DE-B8C4C5F5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C760-469D-4EA5-B154-80F3DF79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6AAE-65BF-48DE-A55C-DE34FC0F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EDD2-E952-466D-885D-DA2C3CFB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65B4-BA9F-4BE1-9415-911BC5AC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58F2-C850-4097-9610-716B5009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E607-3098-406B-8EA4-05482E2B6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29DE-F588-401E-95AB-04F6F2A10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71B9-CC3D-4161-8A34-E4F05AFD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E692-F11D-442F-B4B2-262F86A8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1C5D-1BDF-4B12-A5EB-5F9DF2FD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A1FC-CF0A-4C7B-88D6-C8430B12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EEF0-4AE7-4CC0-B3C3-7BBF9078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0194-C852-4D02-827D-95C06BFC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D5A7-D030-41BB-A806-12BC9958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C6F7-8518-4F88-A85C-EE57F8CE1C7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C0CF-22C9-4294-9C95-D1092E52EB7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der the integers greatest to least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58, 32, 27, -12, -2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Unit 5: Expressions, Equations and Integer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549080" y="3809520"/>
            <a:ext cx="6032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tion 6.7: Simplify numeric expressions using the properties of addition and subtrac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bjective: Simplify numeric expressions using the properties of multiplication and addi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Vocabulary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00"/>
                </a:solidFill>
                <a:latin typeface="Comic Sans MS"/>
              </a:rPr>
              <a:t>Distributive property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4c00"/>
                </a:solidFill>
                <a:latin typeface="Comic Sans MS"/>
              </a:rPr>
              <a:t>You can multiply a number and a sum by multiplying the number by each part of the sum and then adding these product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a(b+c) = ab + a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se the distributive property to evaluat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Ex 1.)  4(8 + 9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Ex 2.)  6(12 + 11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Ex 3.)  3 x (17 + 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se the distributive property to evaluat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actic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7(3 + 4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9(a + b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(4 + 7 + 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se the distributive property to evaluat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You can use the distributive property to make multiplying complicated numbers easi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Ex:     73 x 44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(70 x 445) + (3x445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31,150    + 1,33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32,48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se the distributive property to evaluat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actic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1 x 38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3 x 91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ord 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) 28 students are visiting the zoo. The cost is $5 for each student plus an extra $3 to see the panda exhibit. Use the distributive property to find out the total cost for all of the students to go to the zoo and see the panda exhibit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S – Distributive Proper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17:42:23Z</dcterms:created>
  <dc:creator>TAMMY  COON</dc:creator>
  <dc:description/>
  <dc:language>en-US</dc:language>
  <cp:lastModifiedBy>deanne elizabeth mcgrath</cp:lastModifiedBy>
  <dcterms:modified xsi:type="dcterms:W3CDTF">2011-01-20T17:51:04Z</dcterms:modified>
  <cp:revision>10</cp:revision>
  <dc:subject/>
  <dc:title>Opener: Find the % of the number </dc:title>
</cp:coreProperties>
</file>